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44B-23CA-4495-9AD3-A4443066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E37-F714-4CC9-84E6-7C7EE300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460-B7E9-485E-9E7F-75CCCE01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B93C-0C46-4EED-A5D8-04B01A26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807-9398-4A66-A493-A4544109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B35-BFD6-47BD-97B4-EA71A6E3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585-9339-4417-88FD-BB75B3DA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6B1-7506-4737-9D4C-908E11CC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FF9-C40A-4293-95F0-2C27C5C9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248-8AFC-41D7-B1C8-DAF62E23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7AB-20E5-4BB3-B12F-857FDB84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DEE-D647-4393-9ECC-8296E1F9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745C-F549-4BEF-AD1B-BB6DEB9CD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Jaz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zz is many different sights and sounds.  Jazz is a combination of Latin and African rhythms, along with European melodies.  Jazz is the only form of music that is totally American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zz of the 50s /Outstanding Perfo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bop-not for danc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zzy Gillespie, Charl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rd” Par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l Jazz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al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les Davis, Stan Get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zz of the 60s/Outstanding Perfo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ree Jazz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 whateve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nette Cole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fully worked 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bie Hanc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Jazz in 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ime will tell what direction jazz will go next.  We will have to wait and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nd When Did Jazz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zz began in the early 1900s in New Orleans, Louisiana.  It took place mostly in the African-American commu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Various Types of Jaz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s, Ragtime, Dixieland, Chicago Jazz, Swing, Big Band, Bebop, Cool Jazz, Free Jazz, and 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Typical Jazz Instru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9880" y="2590560"/>
            <a:ext cx="47246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umpets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omb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ri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Ragtime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standing Per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around 18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d on the p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opated mel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-chuck lef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Joplin-King of 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Dixieland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standing Per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9880" y="2590560"/>
            <a:ext cx="4724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gan around 19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eral mus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gan in New Orle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rns and rhythm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e “King” Oli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hicago Jazz/Outstanding Per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yville closed 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ians moved upri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oists improv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instruments ad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uis Armstrong-Satch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Swing/Outstanding Per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 for d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more instr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le or female voca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ny Goodman-black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whites-King of Swing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Band Characteristics/Perfo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ld War 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vel restri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 was an esca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g Bands still pop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enn Miller, Duk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lington, Count Bas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23:11:49Z</dcterms:created>
  <dc:creator>Greenville Schools</dc:creator>
  <dc:description/>
  <dc:language>en-US</dc:language>
  <cp:lastModifiedBy>Preferred Customer</cp:lastModifiedBy>
  <dcterms:modified xsi:type="dcterms:W3CDTF">2008-03-01T18:32:45Z</dcterms:modified>
  <cp:revision>7</cp:revision>
  <dc:subject/>
  <dc:title>Slide 1</dc:title>
</cp:coreProperties>
</file>